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EA2-DFAB-49B9-8DB4-909DF3C1E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EF6-929A-4558-85CE-C5EB28DA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5DF-BD26-49F0-B18F-DD1120D5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E954-604E-4B53-903A-DA2BF65A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AA76-C291-436B-8CD2-32C242A1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631-0419-4CB3-9A28-896597B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360-57E9-4C92-8597-8FAD2382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B1C-43A9-4B24-9177-50F5D9B2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C5B-D03D-47F2-BC06-D1D2837A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1A7-D4E3-4795-9C7C-A1643BE3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383-B19E-4DA0-AF07-7E19277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8D0E-0988-41BF-B732-E2F57E72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44DBD-C186-458B-BC53-0B7EC7527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ctions with à and 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n français, bien su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Placeholder 4" descr=""/>
          <p:cNvPicPr/>
          <p:nvPr/>
        </p:nvPicPr>
        <p:blipFill>
          <a:blip r:embed="rId1"/>
          <a:srcRect l="0" t="-44" r="0" b="-44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a = de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e liv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 la femme célèb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’ = de 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a voi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 l’homme ric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Placeholder 10" descr=""/>
          <p:cNvPicPr/>
          <p:nvPr/>
        </p:nvPicPr>
        <p:blipFill>
          <a:blip r:embed="rId1"/>
          <a:stretch/>
        </p:blipFill>
        <p:spPr>
          <a:xfrm>
            <a:off x="2077920" y="612720"/>
            <a:ext cx="49244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 = 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a voi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u père de Jacqu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’est la voiture de qu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s = 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’est la voi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s Dupo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Placeholder 4" descr=""/>
          <p:cNvPicPr/>
          <p:nvPr/>
        </p:nvPicPr>
        <p:blipFill>
          <a:blip r:embed="rId1"/>
          <a:stretch/>
        </p:blipFill>
        <p:spPr>
          <a:xfrm>
            <a:off x="2584440" y="612720"/>
            <a:ext cx="4262400" cy="3197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+ la = de 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rent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e la bibliothèq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+ l’ = de l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e rent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e l’éco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Placeholder 4" descr=""/>
          <p:cNvPicPr/>
          <p:nvPr/>
        </p:nvPicPr>
        <p:blipFill>
          <a:blip r:embed="rId1"/>
          <a:stretch/>
        </p:blipFill>
        <p:spPr>
          <a:xfrm>
            <a:off x="2095560" y="839880"/>
            <a:ext cx="4146480" cy="3109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 = 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rent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u restaura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u rentres d’où?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Placeholder 4" descr=""/>
          <p:cNvPicPr/>
          <p:nvPr/>
        </p:nvPicPr>
        <p:blipFill>
          <a:blip r:embed="rId1"/>
          <a:stretch/>
        </p:blipFill>
        <p:spPr>
          <a:xfrm>
            <a:off x="1792440" y="1173240"/>
            <a:ext cx="4738680" cy="355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 + les = 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rentre des vois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’es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 fil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15" descr=""/>
          <p:cNvPicPr/>
          <p:nvPr/>
        </p:nvPicPr>
        <p:blipFill>
          <a:blip r:embed="rId1"/>
          <a:stretch/>
        </p:blipFill>
        <p:spPr>
          <a:xfrm>
            <a:off x="1792440" y="4539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8128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a = à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donne le cadea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a fil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’est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l’ami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À + l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le donne le cadea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’ami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’es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 garç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 = 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donne le cadea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 garç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i est-ce?  Ce so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es enf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s = 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donne les cadeaux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 enf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 . . . La bibliothèq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a = à l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a bibliothèqu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. . . L’éco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’ = à l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à l’éc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. . . Le restaur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 = a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 restaura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ù vas-tu? . . . Les is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Placeholder 4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À + les = au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a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 is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23:42:41Z</dcterms:created>
  <dc:creator>John Chapman</dc:creator>
  <dc:description/>
  <dc:language>en-US</dc:language>
  <cp:lastModifiedBy>John Chapman</cp:lastModifiedBy>
  <dcterms:modified xsi:type="dcterms:W3CDTF">2012-03-29T01:10:10Z</dcterms:modified>
  <cp:revision>9</cp:revision>
  <dc:subject/>
  <dc:title>Contractions with à and de</dc:title>
</cp:coreProperties>
</file>